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27C-FE8E-40DF-8E27-00AF659B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34C-7126-4815-BE9E-DE3125AA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419-7F4A-4AB9-94DF-FDFEFE92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BDC-C2CE-49EE-8E5B-47DFD7B0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A19-92E0-4D3C-B413-C82F09FC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565-3F35-4557-885B-FEFB9FB7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400-3396-4317-A467-DAB6FC65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67F-A875-4DFD-8FA0-5E3C3A29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6A7-4150-42CA-A6F0-E9A2F246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CAE-1765-4856-BE3C-AD763CB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FFE-EA10-41D5-B9B5-898D59D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D2C-CD31-4503-92C1-3CE4315C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5015-BCFA-449F-B7F2-4EE593C45E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imetoteach.co.uk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Time to Teach Pres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90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ar 5 (National Numeracy Strate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ased on DFEE Sample Les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83808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ivision of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arger numbe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77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timetoteach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day you are going to look at ways of dividing three-digit numbers by one-digit numbers using mental methods as well as written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am going to give you some su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the approximate answ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3505320"/>
            <a:ext cx="5181480" cy="2971800"/>
            <a:chOff x="533520" y="3505320"/>
            <a:chExt cx="5181480" cy="2971800"/>
          </a:xfrm>
        </p:grpSpPr>
        <p:sp>
          <p:nvSpPr>
            <p:cNvPr id="66" name=""/>
            <p:cNvSpPr/>
            <p:nvPr/>
          </p:nvSpPr>
          <p:spPr>
            <a:xfrm>
              <a:off x="533520" y="3505320"/>
              <a:ext cx="5181480" cy="297180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57600"/>
              <a:ext cx="236232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75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5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8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3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8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7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51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6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range of estimates are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520" y="3505320"/>
            <a:ext cx="5181480" cy="2971800"/>
            <a:chOff x="533520" y="3505320"/>
            <a:chExt cx="5181480" cy="2971800"/>
          </a:xfrm>
        </p:grpSpPr>
        <p:sp>
          <p:nvSpPr>
            <p:cNvPr id="71" name=""/>
            <p:cNvSpPr/>
            <p:nvPr/>
          </p:nvSpPr>
          <p:spPr>
            <a:xfrm>
              <a:off x="533520" y="3505320"/>
              <a:ext cx="5181480" cy="297180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3657600"/>
              <a:ext cx="236232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75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5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8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3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8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7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51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6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this question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3520" y="3505320"/>
            <a:ext cx="5181480" cy="2971800"/>
            <a:chOff x="533520" y="3505320"/>
            <a:chExt cx="5181480" cy="2971800"/>
          </a:xfrm>
        </p:grpSpPr>
        <p:sp>
          <p:nvSpPr>
            <p:cNvPr id="76" name=""/>
            <p:cNvSpPr/>
            <p:nvPr/>
          </p:nvSpPr>
          <p:spPr>
            <a:xfrm>
              <a:off x="533520" y="3505320"/>
              <a:ext cx="5181480" cy="297180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6576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75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5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ing may not be needed for small numbers or simple proble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important for keeping track when dealing with more complex calcul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we need to make informal jott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times we need to be more careful so we can check our ideas and to share it with someone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the other division questions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n estimate then check your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8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8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5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Simplification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rovide a multiplication grid. Children can work with two-digit numbers divided by one-digit numbers and three-digit multiples of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llenge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llenge children to find a quick and efficient way to solve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estimate the size of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use informal methods of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record my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use quick informal methods for division and checking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ication gri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cc33"/>
                </a:solidFill>
                <a:latin typeface="Comic Sans MS"/>
              </a:rPr>
              <a:t>384 </a:t>
            </a:r>
            <a:r>
              <a:rPr b="1" lang="en-GB" sz="3600" spc="-1" strike="noStrike">
                <a:solidFill>
                  <a:srgbClr val="33cc33"/>
                </a:solidFill>
                <a:latin typeface="Symbol"/>
                <a:ea typeface="Symbol"/>
              </a:rPr>
              <a:t></a:t>
            </a:r>
            <a:r>
              <a:rPr b="1" lang="en-GB" sz="3600" spc="-1" strike="noStrike">
                <a:solidFill>
                  <a:srgbClr val="33cc33"/>
                </a:solidFill>
                <a:latin typeface="Comic Sans MS"/>
              </a:rPr>
              <a:t> 3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rite your working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 through your th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es it look like with the standard metho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view of 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compare informal and formal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d you learn how to do this in this less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practise the four opera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am going to write 5 digits on the board, the four operation signs and a target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can use each digi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have to use all the digits if you don’t want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o can get nearest to the target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arget :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 5 3 7 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+ - x </a:t>
            </a:r>
            <a:r>
              <a:rPr b="0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o got the clos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w your solutions on the boar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practise the four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estimate the size of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use informal methods of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record my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use quick informal methods for division and checking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371600"/>
            <a:ext cx="6629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 can compar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ormal and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formal metho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1:07:11Z</dcterms:created>
  <dc:creator> Peter Fogarty</dc:creator>
  <dc:description/>
  <dc:language>en-US</dc:language>
  <cp:lastModifiedBy>Staff</cp:lastModifiedBy>
  <dcterms:modified xsi:type="dcterms:W3CDTF">2010-04-23T08:55:49Z</dcterms:modified>
  <cp:revision>15</cp:revision>
  <dc:subject/>
  <dc:title>Time to Teach Presents</dc:title>
</cp:coreProperties>
</file>